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C32-FB6B-4F71-9B00-3931DD6A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E1D-A08C-473A-8205-F253AFB0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CB5-0164-4E40-BD04-811498BF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77D-F36B-46FD-83D4-35092848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EAB5-3519-40F5-A1CA-7281B200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E69F-4065-4348-813F-8889D704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F36F-BFA2-4058-99C5-EC7A46A9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3920-3644-46D8-A85F-76477F30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C79B-F147-4109-A29E-6D330548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B038-BD0B-4040-AE55-829989CF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1BB4-DDE4-4E04-B353-72B16DF5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638-36A7-42F7-A325-89EA5318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2984-7E02-4562-89C5-D715FF37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9882-6AE5-4F17-A9B4-BC03433B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975E-9AF6-46E9-81C8-4AE912F1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E35C-A5A9-41FF-9E8F-0F2D3D80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0AF5-DDDE-40BC-B97D-59A65214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006-5486-484A-8472-C089183C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0E1-86F6-4B1F-84AF-B4F706FB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582-2E01-48AD-A706-200DF913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F77-9FC5-4BA5-9284-70D8DAC2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294-4A15-46BB-876C-B7C5E496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9A8-B818-495A-8ACE-17C6FE2A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803-ACB2-4CAC-B2AB-1AF29134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4752-893A-4B17-8DAE-798B0B77B6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2D9E-9E8A-47ED-B66F-586158AB77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Текстовая часть ПОС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00240"/>
            <a:ext cx="81216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и оформления в соответствии с требованиями действующих стандартов текстовой части проекта организации строительства. Структура и содержание разделов текстовой части ПОС строго соответствует требованиям, изложенным в Постановлении Правительства РФ от 16 февраля 2008 г. № 87 "О составе разделов проектной документации и требованиях к их содержанию"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екстовая часть ПОС включает в себя 30 позиций, начиная от характеристики района по месту расположения объекта строительства и кончая описанием мероприятий по противопожарной защите; все позиции отражены в упомянутом Постановлении Правительства РФ. Каждая позиция реализуется либо с помощью соответствующего программного модуля (при наличии возможности формализовать задачу и провести необходимые расчеты), либо в виде стандартизованных текстов, дающих возможность пользователю четко изложить вопрос и отразить специфику проектируемого объекта. Для некоторых наиболее сложных и неформализованных разделов пользователю предоставляются примеры их заполнения, заимствованные из уже разработанных и апробированных проектов организации строи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аким образом, данный программный модуль носит собирательный характер и предоставляет пользователю возможность отобрать, скомпоновать, привязать к конкретному объекту и оформить в виде законченного и оформленного документа текстовую часть проекта организации строительства проектируем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60339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66880" y="890640"/>
            <a:ext cx="736740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5494320"/>
            <a:ext cx="81216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 Кроме того, пользователь может настроить способ заполнения текста раздела: вручную, с помощью программного модуля, из существующего документа по объект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28600" y="1019160"/>
            <a:ext cx="6927840" cy="42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та с показателями по объект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9040" y="5494320"/>
            <a:ext cx="8121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режиме работы с показателями по объекту пользователь может просмотреть показатели работы программных модулей и изменить пользовательские показател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961920" y="947880"/>
            <a:ext cx="722016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76440" y="443376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119240" y="971640"/>
            <a:ext cx="706104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411012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текстовую часть ПОС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547640" y="1162080"/>
            <a:ext cx="62661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8-23T15:04:29Z</dcterms:modified>
  <cp:revision>253</cp:revision>
  <dc:subject/>
  <dc:title>Слайд 1</dc:title>
</cp:coreProperties>
</file>